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060-4445-4B7E-B596-BB49137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1BD-F0B7-4382-9AAE-87C7D42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05F-0625-4212-993E-2FB19DCE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B96-6ED3-4577-B434-BB436446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BA7-F3B3-437F-8FD9-43D91CAE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3037-9663-4D1F-B257-4380BF7A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F4C-2391-4E64-BB13-0A78612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E7A7-0430-4F3D-9C07-715A8C4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244B-6D55-4BF9-80B3-6CDE20E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AEB1-5AE2-430A-9F28-8FE1A7FA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23C1-92BC-4FC2-8B67-5CAF08E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9DB-A4BC-4115-8F9B-ADE225C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FAC2-79D8-4521-85C3-03BF451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23B0-8AA1-45C5-903A-81193D9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4EE9-AA78-4196-9993-29285FEA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D1DD-3BD5-4EF2-872A-FC4F1E40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C412-1442-4482-A9D8-565F85B6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8FC-3D88-4472-81FE-E0AEC08F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71E-8249-4D96-B329-2F7A79F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B0F-6985-46BC-8875-CDF216E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A6D-7321-42F1-BB96-C754BBB0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B26-5BE7-4EED-B214-E1042305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967-E599-4D88-A433-5AC8150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C0B-957F-42AD-BA3B-69FA71C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3979-B4F8-4309-982F-2E20FBCCCDC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5B69-6B8D-4115-A8A0-0C0A8201D72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</a:rPr>
              <a:t>Comedy of Manners</a:t>
            </a:r>
            <a:endParaRPr b="0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High Comed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Low Comed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6148440"/>
            <a:ext cx="78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te:  Information is from M. H. Abrams’s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imes New Roman"/>
              </a:rPr>
              <a:t>Glossary of Literary Terms, pp. 26 - 27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.  Comedy of Manners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A. </a:t>
            </a:r>
            <a:r>
              <a:rPr b="0" i="1" lang="en-US" sz="3200" spc="-1" strike="noStrike" u="sng">
                <a:solidFill>
                  <a:srgbClr val="003300"/>
                </a:solidFill>
                <a:uFillTx/>
                <a:latin typeface="Times New Roman"/>
              </a:rPr>
              <a:t>Subject matter: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                                      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the relationships between gentlemen and 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ladies of a sophisticated societ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B. </a:t>
            </a:r>
            <a:r>
              <a:rPr b="0" i="1" lang="en-US" sz="3200" spc="-1" strike="noStrike" u="sng">
                <a:solidFill>
                  <a:srgbClr val="003300"/>
                </a:solidFill>
                <a:uFillTx/>
                <a:latin typeface="Times New Roman"/>
              </a:rPr>
              <a:t>Comic eff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1.  typically brought about by witty dialogue also known as “repartee” [cf. stichomythia:)]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2. noted in absurd violations of social conventions committed by foolish characters 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Consider the three pairs of lovers in                                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imes New Roman"/>
              </a:rPr>
              <a:t>The Importance of Being Earnest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 by Oscar Wilde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I. High Comed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A.  The intention is to evoke laughter at </a:t>
            </a: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 foolish and pretentious behavior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B.  Best evident in a battle of wits     </a:t>
            </a: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3300"/>
                </a:solidFill>
                <a:latin typeface="Times New Roman"/>
              </a:rPr>
              <a:t>between sophisticated lovers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Shakespeare’s Beatrice and Benedick,           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imes New Roman"/>
              </a:rPr>
              <a:t>Much Ado about Noth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II. Low Comed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A. Laughter results from slapstick humor 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and simple jok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imes New Roman"/>
              </a:rPr>
              <a:t>B.  Farce is simila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In farce the characters are NOT the highly sophisticated characters found in a comedy of manner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but instead are more often exaggerated character types put into absurd situations, characterized by much horseplay,                   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as seen in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imes New Roman"/>
              </a:rPr>
              <a:t>The Tempest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 with Stefano and Trincul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ostcard of Oscar Wil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22:27:46Z</dcterms:created>
  <dc:creator>ETIS</dc:creator>
  <dc:description/>
  <dc:language>en-US</dc:language>
  <cp:lastModifiedBy>IIT</cp:lastModifiedBy>
  <dcterms:modified xsi:type="dcterms:W3CDTF">2001-10-04T13:22:52Z</dcterms:modified>
  <cp:revision>4</cp:revision>
  <dc:subject/>
  <dc:title>PowerPoint Presentation  -  Comedy of Manners</dc:title>
</cp:coreProperties>
</file>